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E7C-CE8A-44B1-A474-B0E3C772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693-E903-4D15-A79C-CA6EAD81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F1A-E455-4BFA-B1F6-A1A11521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C42-1AF7-4E77-B93C-2EB7A6AB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BF8C-29C5-41F1-866E-01334019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36C1-7572-4D67-8C34-E47143D2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311B-D84A-48D6-92C1-12575DAF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520D-433D-47DC-958A-DE34CF2E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3453-4613-45F7-8699-B6058FAB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600200" y="96840"/>
            <a:ext cx="5867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9112-2A27-4D2F-A59F-39FD9722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A0BC-8697-4965-8D8F-75C485B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324-C84B-4CDD-ACCF-A0EC20EC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9B01-809B-4489-B013-992B4B4C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2839-AF0B-4537-8395-F9B6B069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DC81-40F1-43EA-97E1-AFA51989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6BEA-3125-4C7E-8434-33C8C7C8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B348-91E9-4929-9537-4E30D606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6C7-BA8A-4BAC-8FDE-A1587BB6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456-C5CE-4F33-90D8-35BC5244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66F-CD4C-4C70-B130-CA3CE071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00200" y="96840"/>
            <a:ext cx="5867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885-D3A0-4D75-8400-BBC34343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556-C4C2-4073-B1AD-8F6F2FA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ACC7-1A75-4BA4-BD00-28B9C21B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4AF-5E9C-4BDD-8E48-3319A2E5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G Technical Meeting, Burlingame, Januar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196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6FBA424-B99B-478B-8FAB-8C42CBEE536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81676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304920" y="0"/>
            <a:ext cx="94284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ftware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" name="mda_small" descr=""/>
          <p:cNvPicPr/>
          <p:nvPr/>
        </p:nvPicPr>
        <p:blipFill>
          <a:blip r:embed="rId2"/>
          <a:stretch/>
        </p:blipFill>
        <p:spPr>
          <a:xfrm>
            <a:off x="8153280" y="15228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080" y="1676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E9EB009-C4EB-443C-B723-7EE93A6E0E2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2280"/>
            <a:ext cx="1600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ftware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1143000"/>
            <a:ext cx="65674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mg_new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198108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map Stat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1295280"/>
          <a:ext cx="8293320" cy="749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293320" cy="749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0A1-77DE-4A63-9275-F0B3557E3D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03:14:17Z</dcterms:created>
  <dc:creator>pae</dc:creator>
  <dc:description/>
  <dc:language>en-US</dc:language>
  <cp:lastModifiedBy>Gerald Lee Bickle</cp:lastModifiedBy>
  <cp:lastPrinted>2001-04-17T19:56:05Z</cp:lastPrinted>
  <dcterms:modified xsi:type="dcterms:W3CDTF">2003-01-29T14:52:23Z</dcterms:modified>
  <cp:revision>162</cp:revision>
  <dc:subject/>
  <dc:title>SCA Q&amp;A Forum</dc:title>
</cp:coreProperties>
</file>